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FF1C-20FA-44DB-BEC9-0BCCCA259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8243-9D61-41FD-9C04-B6786CB73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855-B7F7-4A57-A919-A3B27DE7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345-A51A-4CAE-A6EA-2414D84B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EED-51C6-4324-A86D-35EA9CF2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36F-AD49-4E6E-B09D-E15D5399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F52-8560-464B-AD23-D155B80D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DF8-D215-497C-8DFC-4CF9C10E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D40-75B4-4F38-9122-FB6FD8C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1D8-41CA-490C-86E6-AD1F9486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CA9-9E11-461D-A32A-9A3654C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459-7175-43BE-962F-2815413B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495-463A-4327-AECA-B967889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ABC-F485-45FF-ADBE-F1C8AB92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37AA-B253-4480-8B54-2274D2B58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2:22:11Z</dcterms:created>
  <dc:creator>Long</dc:creator>
  <dc:description/>
  <dc:language>en-US</dc:language>
  <cp:lastModifiedBy>Long</cp:lastModifiedBy>
  <dcterms:modified xsi:type="dcterms:W3CDTF">2011-02-14T03:24:05Z</dcterms:modified>
  <cp:revision>21</cp:revision>
  <dc:subject/>
  <dc:title>Slide 1</dc:title>
</cp:coreProperties>
</file>